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156C-B47C-4B1F-A415-A202F8211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E3D-1A43-4D5D-87F2-BDDBCD75D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D4DDF-0338-45DB-AED2-4C73007E5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71FDB-EAA2-4485-9FF4-CA8AF2637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1812-EF53-4690-95AE-DE8C72280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1FDAF-33B0-4A69-9FB0-F78880928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9D2C-A0FB-4DB3-B11C-E64EB1D7B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B25D-BA9C-4132-ADE3-940D3EB17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F6D3-6E90-4C45-83DE-DCC775726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C95C7-4B9A-4CC9-A4AE-1D5F887D1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C46E5-7770-42DC-BBA9-8DCDE808E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E040-6531-4843-A72A-096A7C780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B2AA1-4184-4219-8286-B8E1AC3EF3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" Target="slide6.xm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" Target="slide6.xml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28600"/>
            <a:ext cx="8229600" cy="72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单词拼写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Farmers p_________ city people with fresh vegetables and meat every 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om s_________ cycling to the country instead of going by bu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Jane is not present today. She has f_____ ill again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A m_______ is a person who buys and sells goods for making mone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You mustn't drive too fast, for it is d________ 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971800" y="685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ro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62320" y="19051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gges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7010280" y="31240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all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4343400"/>
            <a:ext cx="2530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rch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62920" y="5562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anger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38080" y="457200"/>
            <a:ext cx="8305920" cy="74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Do you believe that some living things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存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 on the other planets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The football team of Class Five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打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_ that of Class Four yester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The day when Macao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澳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 returns to China is worth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庆祝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The Taiwan Island is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分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________ from the main land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It is said that Australia was once (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相连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 to South Americ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9907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43800" y="160020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f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048120" y="33526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eleb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791320" y="4038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14400" y="6004080"/>
            <a:ext cx="2362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nnec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04920" y="914400"/>
            <a:ext cx="88390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It's__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令人惊讶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at he should finish the given task in three day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he Johnsons are__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庆祝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hristmas far from thei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Mr. Wang is in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管理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our class. He is our class teach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He went to England for the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目的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of studying science and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Cook charted the coasts of the two island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分隔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y the narrow channe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219320" y="838080"/>
            <a:ext cx="2361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astonish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90512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elebra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28195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har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334120" y="37339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urpo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52578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669960"/>
            <a:ext cx="9144000" cy="62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The enemy was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打败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nd all the cities were libera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After the battle the army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前进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ack towards Rom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Ship building used to be one of our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主要的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dus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The child likes to eat sweet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饼干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Villagers_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提供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Army with food and medici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48120" y="6858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def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19051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ea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30481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aj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560" y="4267080"/>
            <a:ext cx="12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is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0" y="49528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rovi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28600" y="45720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0" y="533520"/>
            <a:ext cx="914400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He remembered that he put the shoes in the box under his b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remembered ________the shoes in the box under the b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he speech given by Captain Cook excited us very mu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____ ____ ____the speech given by Captain Coo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He is not interested in these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____ ____ ____ ____these th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895480" y="16765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pu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533520" y="4191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ere excited 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559260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akes no interest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609480"/>
            <a:ext cx="9144000" cy="52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They surprised us with a vi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y ____us____ _________with a vis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.While he was doing his homewor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heard someone knock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 _______his homewor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heard someone knock at the do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2952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oo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362320" y="129528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by    surpr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27672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hile d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28600" y="228600"/>
            <a:ext cx="8763120" cy="674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Wang Lin insisted on ____to work in the country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be sen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B.sending     C.being sen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D.s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When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hotel will be the highest building in the cit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be comple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B.comple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we comple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D.it comple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We shall travel by night as ____by day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an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both        C.well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D.well as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419720" y="137160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09880" y="342900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786280" y="5562720"/>
            <a:ext cx="538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04920" y="380880"/>
            <a:ext cx="8839080" cy="70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They joined the team ____of the missing chil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in searc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to searc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search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search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Mr Wang is ____the library while the lab is ____his wif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in charge of…in charg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in the charge of…in charg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in charge of…in the charge o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in the charge of…in the charg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28600" y="99072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228600" y="5181480"/>
            <a:ext cx="538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28600" y="181080"/>
            <a:ext cx="8915400" cy="77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.Please remember ____to me as soon as you get the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writ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B.having writ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to wri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D.to have writt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.He suggested the man ____to pris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referred to…be se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referring to…should be s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referred to…was sent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referring to…was s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1280" y="2057400"/>
            <a:ext cx="538200" cy="7318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0" y="3581280"/>
            <a:ext cx="538200" cy="7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4T14:55:34Z</dcterms:created>
  <dc:creator>w</dc:creator>
  <dc:description/>
  <dc:language>en-US</dc:language>
  <cp:lastModifiedBy>w</cp:lastModifiedBy>
  <dcterms:modified xsi:type="dcterms:W3CDTF">2004-08-04T15:30:05Z</dcterms:modified>
  <cp:revision>8</cp:revision>
  <dc:subject/>
  <dc:title>PowerPoint 演示文稿</dc:title>
</cp:coreProperties>
</file>